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B70-3503-47FD-ABF2-25811A24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35E-7C86-496F-B915-CAA5B161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B78-4F5F-475C-BA17-979AB4A5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816-E07D-43F2-9AFD-D4FDB1E9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102-46F5-402F-901C-94AFCFE7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4B2-979C-4584-A050-F454C7E1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375-9B82-4876-A3D0-D8487BDD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E34-E5ED-447E-B820-0277BC69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740-4A1F-47F2-AEDF-569B1C32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12D-5428-4618-8125-2C3C0F4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B76-CEC0-4125-9D19-7F70ADD8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D8F-5EA4-414F-B519-F1CE8DD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8791-9C98-4362-9319-514FF189A7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lenski.org/science/safari/classifyall/eukaryotic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1200" y="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ingdom Protis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protist_diversity"/>
          <p:cNvPicPr/>
          <p:nvPr/>
        </p:nvPicPr>
        <p:blipFill>
          <a:blip r:embed="rId1"/>
          <a:stretch/>
        </p:blipFill>
        <p:spPr>
          <a:xfrm>
            <a:off x="1095480" y="1401840"/>
            <a:ext cx="6953040" cy="50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57360" y="385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600360" y="7048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e45"/>
                </a:solidFill>
                <a:latin typeface="Times New Roman"/>
              </a:rPr>
              <a:t>EXAMPLE OF HOW PSEUDOPODS M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604960" y="5381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U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691160" y="2414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7153200" y="5734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90520" y="237960"/>
            <a:ext cx="8534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 can form 2 pseudopods to surround &amp; trap food.  Then form a food vacuole to break down food in the cytoplasm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25003" t="0" r="0" b="28574"/>
          <a:stretch/>
        </p:blipFill>
        <p:spPr>
          <a:xfrm>
            <a:off x="0" y="3338640"/>
            <a:ext cx="9144000" cy="32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2430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smallest of the protoz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lagellates (FLAJ-uh-lits) use their flagella to move, whip-like projections poking out of their cells, providing a back and forth mov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n have one or several long flag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cellu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characteristics of both plants and 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457200" y="22860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lagell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485640" y="1114560"/>
            <a:ext cx="8372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ove freely and feed on other organi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akes its own food and also obtains nutrients by feeding a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Has an eyespot (to s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When an eyespot detects light it uses flagellum to move toward the light so that its chloroplast can carry out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0600" y="258840"/>
            <a:ext cx="626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uglena (yoo-glee-nuh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57640" y="533520"/>
            <a:ext cx="3515040" cy="5410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0" y="3548160"/>
            <a:ext cx="46483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0" y="533520"/>
            <a:ext cx="449568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1520" y="118548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Generally the largest protoz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Unicellular, slipper 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ilia – hair-like structures - help organisms move, get  food and sense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857680" y="243000"/>
            <a:ext cx="18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357120" y="798480"/>
            <a:ext cx="844416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eeds with the help of a structure called an oral groove – where food is drawn in by external and internal cilia to form a food vacuo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Will eat the other two types of protozoa as well as bacte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al pore sends out wa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quatic  - common in ponds and slow moving stre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74760" y="201600"/>
            <a:ext cx="411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ameci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Loxodes"/>
          <p:cNvPicPr/>
          <p:nvPr/>
        </p:nvPicPr>
        <p:blipFill>
          <a:blip r:embed="rId1"/>
          <a:stretch/>
        </p:blipFill>
        <p:spPr>
          <a:xfrm>
            <a:off x="250920" y="1754280"/>
            <a:ext cx="2598480" cy="4214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100320" y="385920"/>
            <a:ext cx="5815080" cy="6289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282840" y="141444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2a40"/>
                </a:solidFill>
                <a:latin typeface="Times New Roman"/>
              </a:rPr>
              <a:t>ORAL GRO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0126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Algae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are eukaryotic autotroph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y, along with other eukaryotic autotrophs, form the foundation of Earth’s food ch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y produce much of Earth’s oxyg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ound in ponds and ditches, and even in shallow rain pudd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700280" y="127080"/>
            <a:ext cx="53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ant-like protist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195200"/>
            <a:ext cx="8229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cellular protists that has chloroplasts that can carry out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not live al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s groups called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mall flagella that are used to move th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near the surface are specialized to move the entire colony through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source – makes its nutrien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955880" y="168120"/>
            <a:ext cx="559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olvo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02840" y="317520"/>
            <a:ext cx="837252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f you look at a drop of pond water under a microscope, all the "little creatures" you see swimming around 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66ffff"/>
                </a:solidFill>
                <a:latin typeface="Tahoma"/>
              </a:rPr>
              <a:t>protists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4" descr="protista_anim"/>
          <p:cNvPicPr/>
          <p:nvPr/>
        </p:nvPicPr>
        <p:blipFill>
          <a:blip r:embed="rId1"/>
          <a:stretch/>
        </p:blipFill>
        <p:spPr>
          <a:xfrm>
            <a:off x="1951200" y="2060640"/>
            <a:ext cx="537192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Icos-Nature-Volvox"/>
          <p:cNvPicPr/>
          <p:nvPr/>
        </p:nvPicPr>
        <p:blipFill>
          <a:blip r:embed="rId1"/>
          <a:stretch/>
        </p:blipFill>
        <p:spPr>
          <a:xfrm>
            <a:off x="701640" y="343080"/>
            <a:ext cx="7261200" cy="4848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206280" y="5152680"/>
            <a:ext cx="865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A Volvox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is a hollow boll  composed of hundreds of flagellated cells in a single lay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42800" y="600120"/>
            <a:ext cx="842832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ll protists have a nucleus and are therefo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eukaryo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re either plant-like, animal-like or fungus-lik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amoeba"/>
          <p:cNvPicPr/>
          <p:nvPr/>
        </p:nvPicPr>
        <p:blipFill>
          <a:blip r:embed="rId2"/>
          <a:stretch/>
        </p:blipFill>
        <p:spPr>
          <a:xfrm>
            <a:off x="3738600" y="3753000"/>
            <a:ext cx="2489040" cy="235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Slime mold stalk and spore cap"/>
          <p:cNvPicPr/>
          <p:nvPr/>
        </p:nvPicPr>
        <p:blipFill>
          <a:blip r:embed="rId3"/>
          <a:stretch/>
        </p:blipFill>
        <p:spPr>
          <a:xfrm>
            <a:off x="6316560" y="3749760"/>
            <a:ext cx="2132280" cy="2732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Protist, Spirulina"/>
          <p:cNvPicPr/>
          <p:nvPr/>
        </p:nvPicPr>
        <p:blipFill>
          <a:blip r:embed="rId4"/>
          <a:stretch/>
        </p:blipFill>
        <p:spPr>
          <a:xfrm>
            <a:off x="254160" y="3906720"/>
            <a:ext cx="3389040" cy="2541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343160" y="142920"/>
            <a:ext cx="64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a Protist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imal-like and fungus-like protists and are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heterotroph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. They are organisms that cannot make its own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lant-like  protists are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autotroph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– they contain chloroplasts and make their own f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757080" y="5572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terotrophs vs. Autotroph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Protozo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re animal-like proti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heterotroph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grouped according to how they m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wo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protozo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eans "little animal." They are so named because many species behave like tiny animals—specifically, they hunt and gather other microbes as food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28920" y="385920"/>
            <a:ext cx="68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imal Like Protis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66640" y="334440"/>
            <a:ext cx="822960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ll protozoa digest their food in stomach-like compartments called vacuoles</a:t>
            </a: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As they chow down, they make and give off nitrogen, which is an element that plants and other higher creatures can u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rotozoa can be classified into three general groups based on how they mo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2f2"/>
                </a:solidFill>
                <a:latin typeface="Tahoma"/>
              </a:rPr>
              <a:t>Pseudop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2f2"/>
                </a:solidFill>
                <a:latin typeface="Tahoma"/>
              </a:rPr>
              <a:t>Flagel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2f2"/>
                </a:solidFill>
                <a:latin typeface="Tahoma"/>
              </a:rPr>
              <a:t>C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9560" y="130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seudopods: or “false foot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ell membrane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pushe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in one direction &amp; the cytoplasm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flow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into the bulge.  This allows the protozoan to move,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dragging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the rest of the cell behind it engulfing food as they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57480" y="314280"/>
            <a:ext cx="68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po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76440" y="-31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moeba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quatic – lives in ponds, ditches, or slowly moving stream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Just visible to the naked ey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icellul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Obtain nutrition by feeding on other anim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have a thin cell membrane but no cell wal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no definite sha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moeba"/>
          <p:cNvPicPr/>
          <p:nvPr/>
        </p:nvPicPr>
        <p:blipFill>
          <a:blip r:embed="rId1"/>
          <a:stretch/>
        </p:blipFill>
        <p:spPr>
          <a:xfrm>
            <a:off x="171360" y="503280"/>
            <a:ext cx="4732560" cy="31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705200" y="2057400"/>
            <a:ext cx="443880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695160" y="3957480"/>
            <a:ext cx="318312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22:25:27Z</dcterms:created>
  <dc:creator>Dennis Passovoy</dc:creator>
  <dc:description/>
  <dc:language>en-US</dc:language>
  <cp:lastModifiedBy>jcameron</cp:lastModifiedBy>
  <dcterms:modified xsi:type="dcterms:W3CDTF">2012-10-01T21:05:35Z</dcterms:modified>
  <cp:revision>79</cp:revision>
  <dc:subject/>
  <dc:title>Slide 1</dc:title>
</cp:coreProperties>
</file>